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C52-B1E8-4E6C-81B8-D3FB0285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654-18BF-4500-810E-E208FD0D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62CF-4E9F-48D6-B1E8-86064F5F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EE36-20F7-43E4-9307-8FBB576C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95DD-AD36-42C2-8CAF-53B3AD36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446F-B9E9-4C2C-BC32-A3FE9A37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2C1-60D5-49E3-86B8-D261B548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33E2-7880-455D-BE82-A86AC6A0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AD81-13E2-4035-9686-EC856248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ADA-D7E3-4063-A388-FC830C0B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898-9D92-412E-8F6E-2A27EE67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CC3-901A-4A20-92FA-499C5E5E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FDF1-3908-42AA-BA88-7C331BE01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9452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204160" y="6021000"/>
            <a:ext cx="456840" cy="451800"/>
            <a:chOff x="5204160" y="6021000"/>
            <a:chExt cx="456840" cy="451800"/>
          </a:xfrm>
        </p:grpSpPr>
        <p:sp>
          <p:nvSpPr>
            <p:cNvPr id="43" name=""/>
            <p:cNvSpPr/>
            <p:nvPr/>
          </p:nvSpPr>
          <p:spPr>
            <a:xfrm rot="10648800">
              <a:off x="521820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520416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499000" y="4498920"/>
            <a:ext cx="433440" cy="447120"/>
            <a:chOff x="5499000" y="4498920"/>
            <a:chExt cx="433440" cy="447120"/>
          </a:xfrm>
        </p:grpSpPr>
        <p:sp>
          <p:nvSpPr>
            <p:cNvPr id="46" name=""/>
            <p:cNvSpPr/>
            <p:nvPr/>
          </p:nvSpPr>
          <p:spPr>
            <a:xfrm rot="5400000">
              <a:off x="549900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555948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507640" y="1867320"/>
            <a:ext cx="464400" cy="464400"/>
            <a:chOff x="5507640" y="1867320"/>
            <a:chExt cx="464400" cy="464400"/>
          </a:xfrm>
        </p:grpSpPr>
        <p:sp>
          <p:nvSpPr>
            <p:cNvPr id="49" name=""/>
            <p:cNvSpPr/>
            <p:nvPr/>
          </p:nvSpPr>
          <p:spPr>
            <a:xfrm rot="5653800">
              <a:off x="552312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557244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114880" y="398520"/>
            <a:ext cx="447120" cy="433440"/>
            <a:chOff x="5114880" y="398520"/>
            <a:chExt cx="447120" cy="433440"/>
          </a:xfrm>
        </p:grpSpPr>
        <p:sp>
          <p:nvSpPr>
            <p:cNvPr id="52" name=""/>
            <p:cNvSpPr/>
            <p:nvPr/>
          </p:nvSpPr>
          <p:spPr>
            <a:xfrm>
              <a:off x="511488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48892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243960" y="2895840"/>
            <a:ext cx="589680" cy="589320"/>
            <a:chOff x="3243960" y="2895840"/>
            <a:chExt cx="589680" cy="589320"/>
          </a:xfrm>
        </p:grpSpPr>
        <p:sp>
          <p:nvSpPr>
            <p:cNvPr id="55" name=""/>
            <p:cNvSpPr/>
            <p:nvPr/>
          </p:nvSpPr>
          <p:spPr>
            <a:xfrm rot="19849200">
              <a:off x="332172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4544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124000" y="2924280"/>
            <a:ext cx="447120" cy="433440"/>
            <a:chOff x="2124000" y="2924280"/>
            <a:chExt cx="447120" cy="433440"/>
          </a:xfrm>
        </p:grpSpPr>
        <p:sp>
          <p:nvSpPr>
            <p:cNvPr id="58" name=""/>
            <p:cNvSpPr/>
            <p:nvPr/>
          </p:nvSpPr>
          <p:spPr>
            <a:xfrm>
              <a:off x="212400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49804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576480" y="3440880"/>
            <a:ext cx="608400" cy="608400"/>
            <a:chOff x="6576480" y="3440880"/>
            <a:chExt cx="608400" cy="608400"/>
          </a:xfrm>
        </p:grpSpPr>
        <p:sp>
          <p:nvSpPr>
            <p:cNvPr id="61" name=""/>
            <p:cNvSpPr/>
            <p:nvPr/>
          </p:nvSpPr>
          <p:spPr>
            <a:xfrm rot="8455200">
              <a:off x="666360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666036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14836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7732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12136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696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3400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1020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2260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64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92580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92436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7000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3404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0880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5144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884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34204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35428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8812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8584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19708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637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9120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2144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22756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6572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661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10108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556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2144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2728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5116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18788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1672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65164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20576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7164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9236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236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5928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5928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98764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8764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044960" y="126828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044960" y="501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7200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4328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9600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9600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8000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58000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01200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1200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6440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65164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85792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65164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01200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1200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9308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09308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189000"/>
                <a:ext cx="388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言語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を受理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非決定性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0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0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0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0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0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0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0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1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1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1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1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1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1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1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2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2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2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2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2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2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2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3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3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3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3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4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4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4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4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5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5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5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5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5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5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6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6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6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6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6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6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6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7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7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7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8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8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8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8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9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9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9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9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9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9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9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0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0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0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0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0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0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0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3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6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9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2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5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8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1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8360" y="372960"/>
                <a:ext cx="2087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34880" y="981000"/>
                <a:ext cx="2303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baab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1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1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1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1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1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1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1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2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2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2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2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2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2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3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3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3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3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3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3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4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4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4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4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4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5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5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5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5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6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6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6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6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6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7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7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7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7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7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7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7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8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8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8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9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9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9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9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7" name=""/>
          <p:cNvSpPr/>
          <p:nvPr/>
        </p:nvSpPr>
        <p:spPr>
          <a:xfrm>
            <a:off x="385128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0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0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0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0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0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0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0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8" name=""/>
          <p:cNvGrpSpPr/>
          <p:nvPr/>
        </p:nvGrpSpPr>
        <p:grpSpPr>
          <a:xfrm>
            <a:off x="4067280" y="1341360"/>
            <a:ext cx="4176720" cy="1008000"/>
            <a:chOff x="4067280" y="1341360"/>
            <a:chExt cx="4176720" cy="1008000"/>
          </a:xfrm>
        </p:grpSpPr>
        <p:sp>
          <p:nvSpPr>
            <p:cNvPr id="3109" name=""/>
            <p:cNvSpPr/>
            <p:nvPr/>
          </p:nvSpPr>
          <p:spPr>
            <a:xfrm>
              <a:off x="4067280" y="1341360"/>
              <a:ext cx="4176720" cy="1008000"/>
            </a:xfrm>
            <a:prstGeom prst="wedgeRoundRectCallout">
              <a:avLst>
                <a:gd name="adj1" fmla="val 53726"/>
                <a:gd name="adj2" fmla="val 13803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211640" y="1484280"/>
              <a:ext cx="39592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受理状態に遷移することができたので，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r>
                <a:rPr b="1" lang="ja-JP" sz="1800" spc="-1" strike="noStrike" baseline="-25000">
                  <a:solidFill>
                    <a:srgbClr val="333399"/>
                  </a:solidFill>
                  <a:latin typeface="Times New Roman"/>
                </a:rPr>
                <a:t>42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は入力語 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abaaba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を受理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5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5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6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6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6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7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7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46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46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47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47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47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48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48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59280" y="1844640"/>
            <a:ext cx="4249440" cy="936720"/>
            <a:chOff x="3059280" y="1844640"/>
            <a:chExt cx="4249440" cy="936720"/>
          </a:xfrm>
        </p:grpSpPr>
        <p:sp>
          <p:nvSpPr>
            <p:cNvPr id="573" name=""/>
            <p:cNvSpPr/>
            <p:nvPr/>
          </p:nvSpPr>
          <p:spPr>
            <a:xfrm>
              <a:off x="3059280" y="1844640"/>
              <a:ext cx="4249440" cy="936720"/>
            </a:xfrm>
            <a:prstGeom prst="wedgeRoundRectCallout">
              <a:avLst>
                <a:gd name="adj1" fmla="val -53587"/>
                <a:gd name="adj2" fmla="val 78643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32000" y="1989000"/>
              <a:ext cx="40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の時点で２通りの遷移が可能であるが，ここではこ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578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581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584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587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590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593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596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059280" y="1844640"/>
            <a:ext cx="4249440" cy="863640"/>
            <a:chOff x="3059280" y="1844640"/>
            <a:chExt cx="4249440" cy="863640"/>
          </a:xfrm>
        </p:grpSpPr>
        <p:sp>
          <p:nvSpPr>
            <p:cNvPr id="686" name=""/>
            <p:cNvSpPr/>
            <p:nvPr/>
          </p:nvSpPr>
          <p:spPr>
            <a:xfrm>
              <a:off x="3059280" y="1844640"/>
              <a:ext cx="4249440" cy="863640"/>
            </a:xfrm>
            <a:prstGeom prst="wedgeRoundRectCallout">
              <a:avLst>
                <a:gd name="adj1" fmla="val -46935"/>
                <a:gd name="adj2" fmla="val 13621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03640" y="198900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こでも２通りの遷移が可能であるが，今度はこちら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6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6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6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7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7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7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7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8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8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8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8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8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8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8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9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9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9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9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9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9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9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5:46:46Z</dcterms:modified>
  <cp:revision>9</cp:revision>
  <dc:subject/>
  <dc:title>スライド 1</dc:title>
</cp:coreProperties>
</file>